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3C65-AFBF-4DBC-8031-1C297D708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CC41-68AA-4D5D-B003-1D601B416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45E7-5A7E-499B-959D-25F4A2E01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B097-B6C3-4CF2-99C1-469AD8C11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6B523-C41A-47BC-96E4-CA3EF176E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78C48-0AEA-4488-A70F-77719E106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457AD-F5AE-4789-8A6D-81ACF71E2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877C3-2B60-46C3-ABB4-2AB266A7B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C7CB6-E9F0-4161-B4F7-53E9AF3AD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53BE8-A3C6-4C8A-BC95-958D5F798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0C635-F33C-455B-8FDD-EBDFF06C0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EEE6-987E-4460-A75F-2D73872E4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DA43C-AD5F-47F8-8C49-38A737CFF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7F65C-691C-4DBD-A010-E76487DF8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5D7D2-C43C-4868-A19D-64C4540AD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E3F75-5923-4491-89C9-8791C7EA6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217E3-18AE-4363-B504-D8FCAC556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E8E9-B5FC-4CEA-AE01-6E924A143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1EC0-AA98-4FB8-87CC-E8D39881B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495E-D4E1-44FE-8F2C-3396392BA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B526-97AE-4A12-A06C-A83F91E20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E611-FA4F-4E1F-8526-07889CE9A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51B9-300A-4BD1-A0E1-3026C4A14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2192-BEA1-421B-A5DD-E1FFDE428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C572C-CC22-4E5B-9803-3BC54A4543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05F21-E12F-4024-8E54-9617C0761B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edublogs.org/" TargetMode="External"/><Relationship Id="rId2" Type="http://schemas.openxmlformats.org/officeDocument/2006/relationships/hyperlink" Target="http://www.wikispaces.com/site/for/teachers" TargetMode="External"/><Relationship Id="rId3" Type="http://schemas.openxmlformats.org/officeDocument/2006/relationships/hyperlink" Target="http://pbwiki.com/" TargetMode="External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arborheights.wikispaces.com/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blog.wikispaces.com/2007/09/widgets.html" TargetMode="External"/><Relationship Id="rId2" Type="http://schemas.openxmlformats.org/officeDocument/2006/relationships/hyperlink" Target="http://blog.wikispaces.com/2007/09/widgets.html" TargetMode="External"/><Relationship Id="rId3" Type="http://schemas.openxmlformats.org/officeDocument/2006/relationships/hyperlink" Target="http://blog.wikispaces.com/2007/09/widgets.html" TargetMode="Externa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1905120"/>
            <a:ext cx="8077320" cy="173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Wikis, Blogs, and More!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epping Into Web 2.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81880" y="5921280"/>
            <a:ext cx="2131920" cy="2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imes New Roman"/>
              </a:rPr>
              <a:t>Stephanie Labert </a:t>
            </a:r>
            <a:r>
              <a:rPr b="0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©</a:t>
            </a:r>
            <a:r>
              <a:rPr b="0" lang="en-US" sz="1700" spc="-1" strike="noStrike">
                <a:solidFill>
                  <a:srgbClr val="ffffff"/>
                </a:solidFill>
                <a:latin typeface="Times New Roman"/>
              </a:rPr>
              <a:t>2008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Getting Starte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eck school polic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a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oose a serv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22120" y="274680"/>
            <a:ext cx="8699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ich Service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lo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Edublo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ttp://edublogs.org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k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ff99"/>
                </a:solidFill>
                <a:uFillTx/>
                <a:latin typeface="Arial"/>
                <a:hlinkClick r:id="rId2"/>
              </a:rPr>
              <a:t>Wikispa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ttp://www.wikispaces.com/site/for/teach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ff99"/>
                </a:solidFill>
                <a:uFillTx/>
                <a:latin typeface="Arial"/>
                <a:hlinkClick r:id="rId3"/>
              </a:rPr>
              <a:t>PBwik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ttp://pbwiki.com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dublogs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eated by educat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eat sup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pda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dublog Featur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stomizable them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ssword prot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age com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mbed videos, images,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counts for kids (gmai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SS fee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ikispac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dublo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udent accou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ge lock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vigation are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cussion tabs on each p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ssag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dget available for audi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Bwiki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e passwo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st upgrade $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lor chan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ssw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page lock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vigation are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st/comment on pa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widget available for audi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ore!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773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4000"/>
          </a:bodyPr>
          <a:p>
            <a:pPr marL="150840" indent="-15084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ding Widge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26880" indent="-125640">
              <a:lnSpc>
                <a:spcPct val="80000"/>
              </a:lnSpc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dublo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26880" indent="-125640">
              <a:lnSpc>
                <a:spcPct val="80000"/>
              </a:lnSpc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kisp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26880" indent="-125640">
              <a:lnSpc>
                <a:spcPct val="80000"/>
              </a:lnSpc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Bwik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50840" indent="-150840">
              <a:lnSpc>
                <a:spcPct val="8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vata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326880" indent="-12564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ttp://www.moeruavatar.com/index_en.sht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26880" indent="-1256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ttp://educationalsoftware.wikispaces.com/Avata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26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50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502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50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50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ession Wiki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ttp://tech-training.wikispaces.co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iki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pen stru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y be edited collectiv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courage collabo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cilitate the exchange of ide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Arbor Heights Ele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21640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lo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ared interactive jour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ganized by discussion threa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s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Wikispaces</a:t>
            </a:r>
            <a:r>
              <a:rPr b="0" lang="en-US" sz="3200" spc="-1" strike="noStrike" u="sng">
                <a:solidFill>
                  <a:srgbClr val="99ff99"/>
                </a:solidFill>
                <a:uFillTx/>
                <a:latin typeface="Arial"/>
                <a:hlinkClick r:id="rId2"/>
              </a:rPr>
              <a:t> </a:t>
            </a:r>
            <a:r>
              <a:rPr b="0" lang="en-US" sz="3200" spc="-1" strike="noStrike" u="sng">
                <a:solidFill>
                  <a:srgbClr val="99ff99"/>
                </a:solidFill>
                <a:uFillTx/>
                <a:latin typeface="Arial"/>
                <a:hlinkClick r:id="rId3"/>
              </a:rPr>
              <a:t>blo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at's So Special About Wikis and Blogs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e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b publishing to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dited in brows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ce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lexibl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pl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i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sily maintain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ducational Benefi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5000"/>
              </a:lnSpc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et curriculum framework standa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unication to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blish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ding and Wri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llabo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us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monstrate Appropriate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l context for teaching ethics, Internet safety, copyrigh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y do Kids Like 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logs and Wikis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u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res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thentic Audienc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edba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y Project Goal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ster Community involv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eate LMS and Teacher Re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olve Teach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ud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un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llabo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bl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oncer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fety of stud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of passwor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able cont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 home ac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owing other schools access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nternet Guidelin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ach what is appropriate and permissibl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ach respect for others' opinion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velop clea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ect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equen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2T14:33:56Z</dcterms:created>
  <dc:creator>Stephanie Labert</dc:creator>
  <dc:description/>
  <dc:language>en-US</dc:language>
  <cp:lastModifiedBy>Stephanie Labert</cp:lastModifiedBy>
  <dcterms:modified xsi:type="dcterms:W3CDTF">2008-04-19T02:58:54Z</dcterms:modified>
  <cp:revision>73</cp:revision>
  <dc:subject/>
  <dc:title>Slide 1</dc:title>
</cp:coreProperties>
</file>